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6B0C-7F51-4EF9-B68C-DF056CCBD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60E8-B782-400E-B75D-E81847762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E1B2-4943-463B-A4C3-411DB6C92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E391-9C34-43B3-9384-E82CC19D2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7D78D-A087-4C13-BA4D-EEAC984B8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4541D-98C7-4C49-B032-93FDC2EA3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1846-21D6-4EDE-973A-EBC6D036F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9662-DCC0-4E7E-AE6A-0EF2280DD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439A4-0440-4452-BF3A-E12AEEC91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FB7B-80D3-413B-BDF8-AF64428A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DCB5-D41F-4D16-9559-343ABCCBD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D95C-76FD-4CB4-A55E-72C998403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C0BC8-5EDE-44D2-94DD-FCBF128926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7240" y="3573360"/>
            <a:ext cx="7772400" cy="204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Nirmala UI"/>
                <a:ea typeface="Nirmala UI"/>
              </a:rPr>
              <a:t>Основи аспекти психофармакологије и неурофармакологије</a:t>
            </a:r>
            <a:br>
              <a:rPr sz="2800"/>
            </a:b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Nirmala UI"/>
                <a:ea typeface="Nirmala UI"/>
              </a:rPr>
              <a:t>Фармакологија</a:t>
            </a:r>
            <a:r>
              <a:rPr b="0" lang="en-US" sz="2800" spc="-1" strike="noStrike">
                <a:solidFill>
                  <a:srgbClr val="000000"/>
                </a:solidFill>
                <a:latin typeface="Nirmala UI"/>
                <a:ea typeface="Nirmala UI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Nirmala UI"/>
                <a:ea typeface="Nirmala UI"/>
              </a:rPr>
              <a:t>антипсихотика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Nirmala UI"/>
                <a:ea typeface="Nirmala UI"/>
              </a:rPr>
              <a:t>Доц. др Милена Јуришевић</a:t>
            </a:r>
            <a:r>
              <a:rPr b="0" lang="fr-FR" sz="2800" spc="-1" strike="noStrike">
                <a:solidFill>
                  <a:srgbClr val="000000"/>
                </a:solidFill>
                <a:latin typeface="Nirmala UI"/>
                <a:ea typeface="Nirmala U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611280" y="404640"/>
            <a:ext cx="7848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Nirmala UI"/>
              </a:rPr>
              <a:t>Факултет медицинских нау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Nirmala UI"/>
              </a:rPr>
              <a:t>Универзитет у Крагујевц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Nirmala UI"/>
              </a:rPr>
              <a:t>Фармакологија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Nirmala UI"/>
              </a:rPr>
              <a:t>Допами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06280" y="1268280"/>
            <a:ext cx="86868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ctangle 9"/>
          <p:cNvSpPr/>
          <p:nvPr/>
        </p:nvSpPr>
        <p:spPr>
          <a:xfrm>
            <a:off x="179280" y="1268280"/>
            <a:ext cx="89647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Nirmala UI"/>
              </a:rPr>
              <a:t>У мозгу постоје 4 допаминергичка пу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Nirmala UI"/>
              </a:rPr>
              <a:t>Нигростријатал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Nirmala UI"/>
              </a:rPr>
              <a:t>75% допамина-тела ћелија у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  <a:ea typeface="Nirmala UI"/>
              </a:rPr>
              <a:t>s. nigra</a:t>
            </a:r>
            <a:r>
              <a:rPr b="0" i="1" lang="sr-RS" sz="2000" spc="-1" strike="noStrike">
                <a:solidFill>
                  <a:srgbClr val="000000"/>
                </a:solidFill>
                <a:latin typeface="Calibri"/>
                <a:ea typeface="Nirmala UI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Nirmala UI"/>
              </a:rPr>
              <a:t>а аксони у корпус стриату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Nirmala UI"/>
              </a:rPr>
              <a:t>Основна контрола покрета у оквиру екстрапирамидалног систе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Nirmala UI"/>
              </a:rPr>
              <a:t>Мезолимбич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Nirmala UI"/>
              </a:rPr>
              <a:t>VTA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Nirmala UI"/>
              </a:rPr>
              <a:t> преко медијалног снопа великог мозга  на делове лимбичког система- понаша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Nirmala UI"/>
              </a:rPr>
              <a:t>Мезокортикал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Nirmala UI"/>
              </a:rPr>
              <a:t>VTA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Nirmala UI"/>
              </a:rPr>
              <a:t> преко медијалног снопа великог мозга до предњег кортекса- понаша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Nirmala UI"/>
              </a:rPr>
              <a:t>Тубероинфунфибулар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Nirmala UI"/>
              </a:rPr>
              <a:t>Кратки неурони –хипоталамус- особађање пролактина (ендокрини ефект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Nirmala UI"/>
              </a:rPr>
              <a:t>Допами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206280" y="1268280"/>
            <a:ext cx="86868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Rectangle 9"/>
          <p:cNvSpPr/>
          <p:nvPr/>
        </p:nvSpPr>
        <p:spPr>
          <a:xfrm>
            <a:off x="179280" y="1268280"/>
            <a:ext cx="89647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Nirmala UI"/>
              </a:rPr>
              <a:t>Допамин делује пресинаптички и постсинаптичк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Nirmala UI"/>
              </a:rPr>
              <a:t>Допамински рецептори – рецептори везани з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Nirmala UI"/>
              </a:rPr>
              <a:t>G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Nirmala UI"/>
              </a:rPr>
              <a:t>- протеин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Nirmala UI"/>
              </a:rPr>
              <a:t>(5 врста 2 тип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Nirmala UI"/>
              </a:rPr>
              <a:t>D1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Nirmala UI"/>
              </a:rPr>
              <a:t> тип 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Nirmala UI"/>
              </a:rPr>
              <a:t>D1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Nirmala UI"/>
              </a:rPr>
              <a:t> и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Nirmala UI"/>
              </a:rPr>
              <a:t>D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Nirmala UI"/>
              </a:rPr>
              <a:t>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Nirmala UI"/>
              </a:rPr>
              <a:t>Активирају аденилат-циклазу--&gt; повећавају концентрацију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Nirmala UI"/>
              </a:rPr>
              <a:t>cAM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Nirmala UI"/>
              </a:rPr>
              <a:t>D2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Nirmala UI"/>
              </a:rPr>
              <a:t> тип (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Nirmala UI"/>
              </a:rPr>
              <a:t>D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Nirmala UI"/>
              </a:rPr>
              <a:t>2,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Nirmala UI"/>
              </a:rPr>
              <a:t> D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Nirmala UI"/>
              </a:rPr>
              <a:t>3 и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Nirmala UI"/>
              </a:rPr>
              <a:t>D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Nirmala UI"/>
              </a:rPr>
              <a:t>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Nirmala UI"/>
              </a:rPr>
              <a:t>Инхибирају аденилат-циклазу--&gt; смањују концентрацију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Nirmala UI"/>
              </a:rPr>
              <a:t>cAMP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Nirmala UI"/>
              </a:rPr>
              <a:t> , активира канале з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Nirmala UI"/>
              </a:rPr>
              <a:t>K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Nirmala UI"/>
              </a:rPr>
              <a:t>, инхибира канале за калцијум, може да активира и фософлипазу 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Nirmala UI"/>
              </a:rPr>
              <a:t>Агонисти:допамин, апоморфин, бромокриптин, квинпиро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Nirmala UI"/>
              </a:rPr>
              <a:t>Антагонисти: хлорпромазин, халоперидол, спиперон, сулпирид, клозапин.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Nirmala UI"/>
              </a:rPr>
              <a:t>Кокаин и амфетамин- блокирају допаминске транспортере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Nirmala UI"/>
              </a:rPr>
              <a:t>Допаминергички неурони имају улогу на настајању мучнине и повраћа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Nirmala UI"/>
              </a:rPr>
              <a:t>Норадренали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06280" y="1700280"/>
            <a:ext cx="86868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Nirmala UI"/>
              </a:rPr>
              <a:t>Норадреналин се инактивира у ЦНС-у  под утицајем моноаминооксидазе, алдехид-редуктазе и катехол-О-метил трасфераз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Nirmala UI"/>
              </a:rPr>
              <a:t>Са изузетком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Nirmala UI"/>
              </a:rPr>
              <a:t>β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Nirmala UI"/>
              </a:rPr>
              <a:t>3 аденорецептора, сви аденорецептори (везани за G- протеине) присутни у ЦНС-у- улога неких још увек није јасн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Nirmala UI"/>
              </a:rPr>
              <a:t>Лекови који делују делимично или искључиво на норадренергичку трансмисију у ЦНС-у : антидепресиви, кокаин, амфетамин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Nirmala UI"/>
              </a:rPr>
              <a:t>Клонидин, метилдоп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Rectangle 9"/>
          <p:cNvSpPr/>
          <p:nvPr/>
        </p:nvSpPr>
        <p:spPr>
          <a:xfrm>
            <a:off x="179280" y="1268280"/>
            <a:ext cx="896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Nirmala UI"/>
              </a:rPr>
              <a:t>Процес учења, меморије и регулација циклуса сан-будно стање, регулација крвног притис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Nirmala UI"/>
              </a:rPr>
              <a:t>Серотонин (5-хидрокситриптамин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206280" y="1700280"/>
            <a:ext cx="86868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tangle 9"/>
          <p:cNvSpPr/>
          <p:nvPr/>
        </p:nvSpPr>
        <p:spPr>
          <a:xfrm>
            <a:off x="179280" y="1268280"/>
            <a:ext cx="806472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Nirmala UI"/>
              </a:rPr>
              <a:t>1953. LS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Nirmala UI"/>
              </a:rPr>
              <a:t>Прекурсор триптофан---триптофан хидроксилазе (конверзија)-----5-хидрокситриптофан--АМ декарбоксилаза (декарбоксилација)----&gt;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Nirmala UI"/>
              </a:rPr>
              <a:t> 5-хидрокситриптами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Nirmala UI"/>
              </a:rPr>
              <a:t>Дејство му престаје услед преузимања у нервне завршетке и метаболизмом под утицајем МА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Nirmala UI"/>
              </a:rPr>
              <a:t>Поновно пресинаптичко преузимање (специфични транспортет)---- SSRI инхибирају ист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Nirmala UI"/>
              </a:rPr>
              <a:t>Амфетамин, кокаин инхибирају специфичне транспортере за серотонин, катехоламине, допамин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Nirmala UI"/>
              </a:rPr>
              <a:t>Нормална телесна температура, сексуална активност, апетит, смењивање будности и сна, повраћање, понашање.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Nirmala UI"/>
              </a:rPr>
              <a:t>Серотони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06280" y="1268280"/>
            <a:ext cx="868680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Nirmala UI"/>
              </a:rPr>
              <a:t>Рецептори- углавном везани за G- протеине ( изузев 5H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Calibri"/>
                <a:ea typeface="Nirmala UI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Nirmala UI"/>
              </a:rPr>
              <a:t>који су лиганд-зависни јонски канали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Nirmala UI"/>
              </a:rPr>
              <a:t>5H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Nirmala UI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Nirmala UI"/>
              </a:rPr>
              <a:t> углавном инхибитор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Nirmala UI"/>
              </a:rPr>
              <a:t>Агонисти  1б и 1д- суматриптан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Nirmala UI"/>
              </a:rPr>
              <a:t>Парцијални агонисти 1а-буспирон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Nirmala UI"/>
              </a:rPr>
              <a:t>5H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Nirmala UI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Nirmala UI"/>
              </a:rPr>
              <a:t>мета антипсихотика (антагонисти) и антидепресива, халуциногених супстанц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Nirmala UI"/>
              </a:rPr>
              <a:t>Агониста 2ц-лоркасери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Nirmala UI"/>
              </a:rPr>
              <a:t>Антагониста метизергид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Nirmala UI"/>
              </a:rPr>
              <a:t>5HT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Calibri"/>
                <a:ea typeface="Nirmala UI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19960" indent="-2239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Nirmala UI"/>
              </a:rPr>
              <a:t>Антагонисти ондасетрон, гранисетро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Nirmala UI"/>
              </a:rPr>
              <a:t>Хистами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06280" y="1268280"/>
            <a:ext cx="868680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Nirmala UI"/>
              </a:rPr>
              <a:t>Равнотежа, апетит, секреција хормона хипофизе, перцепција бола..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Nirmala UI"/>
              </a:rPr>
              <a:t>Хистидин ----хистамин декарбоксилаза--- хистами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Nirmala UI"/>
              </a:rPr>
              <a:t>Рецептори везани за G- протеине (H1,H2,H3, H4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Nirmala UI"/>
              </a:rPr>
              <a:t>Антагонисти: антихисаминици- лечење мучнине и повраћања, поремећаји спвања (делују седативно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Nirmala UI"/>
              </a:rPr>
              <a:t>Антипсихотици антидепресиви---- H1---- седативни ефека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Nirmala UI"/>
              </a:rPr>
              <a:t>Ацетилхоли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06280" y="1268280"/>
            <a:ext cx="868680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Nirmala UI"/>
              </a:rPr>
              <a:t>Неурони присутни у корпус стријатуму, медијалном септалном нуклеусу и ретикуларној формациј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Nirmala UI"/>
              </a:rPr>
              <a:t>Стријатонигрални пут-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Nirmala UI"/>
              </a:rPr>
              <a:t>Вољни покрети, процес мишљена и мимеориј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Nirmala UI"/>
              </a:rPr>
              <a:t>Алзхајмер, Паринсон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Nirmala UI"/>
              </a:rPr>
              <a:t>Везује се за никотинске и мускаринске рецептор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Nirmala UI"/>
              </a:rPr>
              <a:t>Ацетилхоли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06280" y="1268280"/>
            <a:ext cx="868680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Nirmala UI"/>
              </a:rPr>
              <a:t>Никотински рецептори (лиганд зависни јонотропни рецептор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Nirmala UI"/>
              </a:rPr>
              <a:t>Агониста: никот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Nirmala UI"/>
              </a:rPr>
              <a:t>Мускарински рецептори (везани за G-протеин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Nirmala UI"/>
              </a:rPr>
              <a:t>М1 тип (М1,3,5)-услед активације- повећана интрацелуларна концентрација калцијум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Nirmala UI"/>
              </a:rPr>
              <a:t>М2 и М4- активација- отвара калијумске канале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Nirmala UI"/>
              </a:rPr>
              <a:t>Антагонисти: скополам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Nirmala UI"/>
                <a:ea typeface="Nirmala UI"/>
              </a:rPr>
              <a:t>Неуропептид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06280" y="1268280"/>
            <a:ext cx="868680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Nirmala UI"/>
              </a:rPr>
              <a:t>Опиоидни пептид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Nirmala UI"/>
              </a:rPr>
              <a:t>Ендорфи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Nirmala UI"/>
              </a:rPr>
              <a:t>Енкефали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Nirmala UI"/>
              </a:rPr>
              <a:t>Динорфи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Nirmala UI"/>
              </a:rPr>
              <a:t>Супстанца П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Nirmala UI"/>
              </a:rPr>
              <a:t>Хипофизни пептид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Calibri"/>
                <a:ea typeface="Nirmala UI"/>
              </a:rPr>
              <a:t>Окситоцин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Calibri"/>
                <a:ea typeface="Nirmala UI"/>
              </a:rPr>
              <a:t>Вазопреси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Nirmala UI"/>
              </a:rPr>
              <a:t>Пурин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Nirmala UI"/>
              </a:rPr>
              <a:t>Аденози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Nirmala UI"/>
              </a:rPr>
              <a:t>АТП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Nirmala UI"/>
              </a:rPr>
              <a:t>Остал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Лекови који делују на ЦН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341000"/>
            <a:ext cx="82296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анестетиц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опиоидни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аналгетици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антиепилептици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антипаркинсоници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антихолинергици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допаминергици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психолептиц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антипсихотици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анксиолитици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хипнотици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седативи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антидепресиви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психостимуланси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лечење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мигрен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лекови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против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деменциј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НСАИ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Остали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лекови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лекови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з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лечење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зависности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од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опиоид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средств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против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вртоглавице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Calibri"/>
              </a:rPr>
              <a:t>.....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Nirmala UI"/>
              </a:rPr>
              <a:t>Неуротрансмитери у ЦН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Nirmala UI"/>
              </a:rPr>
              <a:t>Хемијске супстанце које обезбеђују комуникацију између неуро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Nirmala UI"/>
              </a:rPr>
              <a:t>Рецптори </a:t>
            </a:r>
            <a:r>
              <a:rPr b="0" lang="sr-RS" sz="2500" spc="-1" strike="noStrike">
                <a:solidFill>
                  <a:srgbClr val="000000"/>
                </a:solidFill>
                <a:latin typeface="Calibri"/>
                <a:ea typeface="Nirmala UI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  <a:ea typeface="Nirmala UI"/>
              </a:rPr>
              <a:t>Јонотропни (лиганд-зависни канали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Calibri"/>
                <a:ea typeface="Nirmala UI"/>
              </a:rPr>
              <a:t>Састоје се од субјединиц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Calibri"/>
                <a:ea typeface="Nirmala UI"/>
              </a:rPr>
              <a:t>Неосетљиви или врло слабо осетљиви на промене мембранског потенцијал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Calibri"/>
                <a:ea typeface="Nirmala UI"/>
              </a:rPr>
              <a:t>Брза синаптичка трансмисиј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  <a:ea typeface="Nirmala UI"/>
              </a:rPr>
              <a:t>Метаботропн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Calibri"/>
                <a:ea typeface="Nirmala UI"/>
              </a:rPr>
              <a:t>7 трансмембрансих подјединица  везаних за </a:t>
            </a:r>
            <a:r>
              <a:rPr b="0" lang="en-US" sz="1700" spc="-1" strike="noStrike">
                <a:solidFill>
                  <a:srgbClr val="000000"/>
                </a:solidFill>
                <a:latin typeface="Nirmala UI"/>
                <a:ea typeface="Nirmala UI"/>
              </a:rPr>
              <a:t>G –</a:t>
            </a:r>
            <a:r>
              <a:rPr b="0" lang="sr-RS" sz="1700" spc="-1" strike="noStrike">
                <a:solidFill>
                  <a:srgbClr val="000000"/>
                </a:solidFill>
                <a:latin typeface="Calibri"/>
                <a:ea typeface="Nirmala UI"/>
              </a:rPr>
              <a:t>протеине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Calibri"/>
                <a:ea typeface="Nirmala UI"/>
              </a:rPr>
              <a:t>Активација </a:t>
            </a:r>
            <a:r>
              <a:rPr b="0" lang="en-US" sz="1700" spc="-1" strike="noStrike">
                <a:solidFill>
                  <a:srgbClr val="000000"/>
                </a:solidFill>
                <a:latin typeface="Nirmala UI"/>
                <a:ea typeface="Nirmala UI"/>
              </a:rPr>
              <a:t>G –</a:t>
            </a:r>
            <a:r>
              <a:rPr b="0" lang="sr-RS" sz="1700" spc="-1" strike="noStrike">
                <a:solidFill>
                  <a:srgbClr val="000000"/>
                </a:solidFill>
                <a:latin typeface="Calibri"/>
                <a:ea typeface="Nirmala UI"/>
              </a:rPr>
              <a:t>протеина </a:t>
            </a:r>
            <a:r>
              <a:rPr b="0" lang="sr-RS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sr-RS" sz="1700" spc="-1" strike="noStrike">
                <a:solidFill>
                  <a:srgbClr val="000000"/>
                </a:solidFill>
                <a:latin typeface="Calibri"/>
                <a:ea typeface="Nirmala UI"/>
              </a:rPr>
              <a:t> стварање других гласника који модулирају волтажно- зависне канале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Calibri"/>
                <a:ea typeface="Nirmala UI"/>
              </a:rPr>
              <a:t>Постсинаптички ефекти настају спорије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300" spc="-1" strike="noStrike">
                <a:solidFill>
                  <a:srgbClr val="000000"/>
                </a:solidFill>
                <a:latin typeface="Calibri"/>
                <a:ea typeface="Nirmala UI"/>
              </a:rPr>
              <a:t>Дејлов принцип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94920" y="4608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Антипсихотоц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46040" y="1647360"/>
            <a:ext cx="8229600" cy="480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Шизофренија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врста психозе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која настаје услед појачане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активност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мезо-лимбичког и мезо-кортикалног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допаминергичк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ог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пут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-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Позитивни симпто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Делузиј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Халуцинациј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Поремећаји мишљења (по садржају, чудне реченице и нерационални закључци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Абнормално, неорганизовано понашањ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Кататониј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Негативни симпто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Социјално понашањ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Емоцинална индиферентнос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Анхедониј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Неспособност за обављање свакодневних задатак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3"/>
          <p:cNvSpPr/>
          <p:nvPr/>
        </p:nvSpPr>
        <p:spPr>
          <a:xfrm>
            <a:off x="426960" y="5789520"/>
            <a:ext cx="860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Когниција (дефицити у пажњи, памћењу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Поред тога анксиозност, осећај кривице, депресија.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4920" y="4608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Механизам дејств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46040" y="16808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Доминантно</a:t>
            </a:r>
            <a:r>
              <a:rPr b="0" lang="sr-Latn-CS" sz="25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500" spc="-1" strike="noStrike">
                <a:solidFill>
                  <a:srgbClr val="000000"/>
                </a:solidFill>
                <a:latin typeface="Calibri"/>
              </a:rPr>
              <a:t>блок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ада</a:t>
            </a:r>
            <a:r>
              <a:rPr b="0" lang="sr-Latn-CS" sz="2500" spc="-1" strike="noStrike">
                <a:solidFill>
                  <a:srgbClr val="000000"/>
                </a:solidFill>
                <a:latin typeface="Calibri"/>
              </a:rPr>
              <a:t> допаминск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их</a:t>
            </a:r>
            <a:r>
              <a:rPr b="0" lang="sr-Latn-CS" sz="2500" spc="-1" strike="noStrike">
                <a:solidFill>
                  <a:srgbClr val="000000"/>
                </a:solidFill>
                <a:latin typeface="Calibri"/>
              </a:rPr>
              <a:t> рецептор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sr-Latn-CS" sz="2500" spc="-1" strike="noStrike">
                <a:solidFill>
                  <a:srgbClr val="000000"/>
                </a:solidFill>
                <a:latin typeface="Calibri"/>
              </a:rPr>
              <a:t> на неуронима на којима се завршавају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500" spc="-1" strike="noStrike">
                <a:solidFill>
                  <a:srgbClr val="000000"/>
                </a:solidFill>
                <a:latin typeface="Calibri"/>
              </a:rPr>
              <a:t>допаминергички путеви (блокирају </a:t>
            </a:r>
            <a:r>
              <a:rPr b="1" lang="sr-Latn-CS" sz="2500" spc="-1" strike="noStrike">
                <a:solidFill>
                  <a:srgbClr val="000000"/>
                </a:solidFill>
                <a:latin typeface="Calibri"/>
              </a:rPr>
              <a:t>D2 </a:t>
            </a:r>
            <a:r>
              <a:rPr b="0" lang="sr-Latn-CS" sz="2500" spc="-1" strike="noStrike">
                <a:solidFill>
                  <a:srgbClr val="000000"/>
                </a:solidFill>
                <a:latin typeface="Calibri"/>
              </a:rPr>
              <a:t>подтип рецептора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sr-Latn-CS" sz="2500" spc="-1" strike="noStrike">
                <a:solidFill>
                  <a:srgbClr val="000000"/>
                </a:solidFill>
                <a:latin typeface="Calibri"/>
              </a:rPr>
              <a:t>афинитет корел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ира </a:t>
            </a:r>
            <a:r>
              <a:rPr b="0" lang="sr-Latn-CS" sz="2500" spc="-1" strike="noStrike">
                <a:solidFill>
                  <a:srgbClr val="000000"/>
                </a:solidFill>
                <a:latin typeface="Calibri"/>
              </a:rPr>
              <a:t>са дозом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sr-Latn-CS" sz="2500" spc="-1" strike="noStrike">
                <a:solidFill>
                  <a:srgbClr val="000000"/>
                </a:solidFill>
                <a:latin typeface="Calibri"/>
              </a:rPr>
              <a:t>опринос антипсихотичном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500" spc="-1" strike="noStrike">
                <a:solidFill>
                  <a:srgbClr val="000000"/>
                </a:solidFill>
                <a:latin typeface="Calibri"/>
              </a:rPr>
              <a:t>ефекту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: б</a:t>
            </a:r>
            <a:r>
              <a:rPr b="0" lang="sr-Latn-CS" sz="2500" spc="-1" strike="noStrike">
                <a:solidFill>
                  <a:srgbClr val="000000"/>
                </a:solidFill>
                <a:latin typeface="Calibri"/>
              </a:rPr>
              <a:t>локада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 и </a:t>
            </a:r>
            <a:r>
              <a:rPr b="0" lang="sr-Latn-CS" sz="2500" spc="-1" strike="noStrike">
                <a:solidFill>
                  <a:srgbClr val="000000"/>
                </a:solidFill>
                <a:latin typeface="Calibri"/>
              </a:rPr>
              <a:t>допаминских D4 и </a:t>
            </a:r>
            <a:r>
              <a:rPr b="1" lang="sr-Latn-CS" sz="2500" spc="-1" strike="noStrike">
                <a:solidFill>
                  <a:srgbClr val="000000"/>
                </a:solidFill>
                <a:latin typeface="Calibri"/>
              </a:rPr>
              <a:t>5HT2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1" lang="sr-Latn-C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500" spc="-1" strike="noStrike">
                <a:solidFill>
                  <a:srgbClr val="000000"/>
                </a:solidFill>
                <a:latin typeface="Calibri"/>
              </a:rPr>
              <a:t>серотонинских рецептор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5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Одређени </a:t>
            </a:r>
            <a:r>
              <a:rPr b="0" lang="sr-Latn-CS" sz="2500" spc="-1" strike="noStrike">
                <a:solidFill>
                  <a:srgbClr val="000000"/>
                </a:solidFill>
                <a:latin typeface="Calibri"/>
              </a:rPr>
              <a:t>број антипсихотика блокира и мускаринске,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l-GR" sz="25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500" spc="-1" strike="noStrike">
                <a:solidFill>
                  <a:srgbClr val="000000"/>
                </a:solidFill>
                <a:latin typeface="Calibri"/>
              </a:rPr>
              <a:t>адренергичке и H1 хистаминергичке рецептор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Индикациј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Шизофрен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Акутни поремећаји понаша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Манична фаза биполарне психоз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Поремећаји понашања/агресија (и ппкод Алцхајмерове болест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Gilles de la Touret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Непсихијатријске индикације – повраћања разне етиологије, неуролептаналгез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8360" y="16808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alibri"/>
              </a:rPr>
              <a:t>Антипсихотици сузбијају тзв. “позитивне” симптоме шизофреније: појаву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500" spc="-1" strike="noStrike">
                <a:solidFill>
                  <a:srgbClr val="000000"/>
                </a:solidFill>
                <a:latin typeface="Calibri"/>
              </a:rPr>
              <a:t>суманутих идеја, агитираност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Latn-CS" sz="2500" spc="-1" strike="noStrike">
                <a:solidFill>
                  <a:srgbClr val="000000"/>
                </a:solidFill>
                <a:latin typeface="Calibri"/>
              </a:rPr>
              <a:t>илузије и халуцинациј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sr-Latn-CS" sz="2500" spc="-1" strike="noStrike">
                <a:solidFill>
                  <a:srgbClr val="000000"/>
                </a:solidFill>
                <a:latin typeface="Calibri"/>
              </a:rPr>
              <a:t>Негативни” симптоми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Latn-CS" sz="2500" spc="-1" strike="noStrike">
                <a:solidFill>
                  <a:srgbClr val="000000"/>
                </a:solidFill>
                <a:latin typeface="Calibri"/>
              </a:rPr>
              <a:t>слаба социјализација, емоционална затупљеност, дефицит у процесу мишљења)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500" spc="-1" strike="noStrike">
                <a:solidFill>
                  <a:srgbClr val="000000"/>
                </a:solidFill>
                <a:latin typeface="Calibri"/>
              </a:rPr>
              <a:t>слабо реагују на ове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медикаменте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sr-Latn-CS" sz="2500" spc="-1" strike="noStrike">
                <a:solidFill>
                  <a:srgbClr val="000000"/>
                </a:solidFill>
                <a:latin typeface="Calibri"/>
              </a:rPr>
              <a:t>ун ефекат антипсихотика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 се испољава након </a:t>
            </a:r>
            <a:r>
              <a:rPr b="0" lang="sr-Latn-CS" sz="2500" spc="-1" strike="noStrike">
                <a:solidFill>
                  <a:srgbClr val="000000"/>
                </a:solidFill>
                <a:latin typeface="Calibri"/>
              </a:rPr>
              <a:t>више дана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sr-Latn-CS" sz="2500" spc="-1" strike="noStrike">
                <a:solidFill>
                  <a:srgbClr val="000000"/>
                </a:solidFill>
                <a:latin typeface="Calibri"/>
              </a:rPr>
              <a:t>недеља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4920" y="46080"/>
            <a:ext cx="821844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Антипсихотици</a:t>
            </a:r>
            <a:r>
              <a:rPr b="0" lang="sr-CS" sz="4400" spc="-1" strike="noStrike">
                <a:solidFill>
                  <a:srgbClr val="000000"/>
                </a:solidFill>
                <a:latin typeface="Calibri"/>
              </a:rPr>
              <a:t> - </a:t>
            </a:r>
            <a:r>
              <a:rPr b="0" lang="sr-Latn-CS" sz="4400" spc="-1" strike="noStrike">
                <a:solidFill>
                  <a:srgbClr val="000000"/>
                </a:solidFill>
                <a:latin typeface="Calibri"/>
              </a:rPr>
              <a:t>хемијске клас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360" y="134100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Ф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енотиазин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алифатична једињења – хлорпромази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пиперидине – тиоридази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Calibri"/>
              </a:rPr>
              <a:t>пиперазине - флуфенази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утирофенони (халоперидол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иоксантени (тиотиксен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типични”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(клозапин, оланзапин, рисперидон,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палиперидон,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кветиапин, </a:t>
            </a: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арипипразол*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зипрасидон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асенапин, сериндол, зотепин, локсапин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Бензамиди (Сулпирид, амисулпирид, ремоксиприд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Класични антипсихотиц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684360" y="1989000"/>
          <a:ext cx="7704000" cy="2967120"/>
        </p:xfrm>
        <a:graphic>
          <a:graphicData uri="http://schemas.openxmlformats.org/drawingml/2006/table">
            <a:tbl>
              <a:tblPr/>
              <a:tblGrid>
                <a:gridCol w="2236680"/>
                <a:gridCol w="1789200"/>
                <a:gridCol w="1690560"/>
                <a:gridCol w="19875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Хлорпромаз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Халперидо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Флуфенази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+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+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++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+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HT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+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+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α</a:t>
                      </a:r>
                      <a:r>
                        <a:rPr b="0" lang="el-GR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+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++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</a:tbl>
          </a:graphicData>
        </a:graphic>
      </p:graphicFrame>
      <p:sp>
        <p:nvSpPr>
          <p:cNvPr id="106" name="TextBox 6"/>
          <p:cNvSpPr/>
          <p:nvPr/>
        </p:nvSpPr>
        <p:spPr>
          <a:xfrm>
            <a:off x="0" y="6408720"/>
            <a:ext cx="914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Тhe Аmerican psychiatric association practice guideline for the treatment of patients with schizophrenia преузето са www.psychiatry.org › APA-Draft-Schizophrenia-Treatment-Guidelin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Атипични антипсихотиц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71280" y="2117880"/>
          <a:ext cx="8893440" cy="2966760"/>
        </p:xfrm>
        <a:graphic>
          <a:graphicData uri="http://schemas.openxmlformats.org/drawingml/2006/table">
            <a:tbl>
              <a:tblPr/>
              <a:tblGrid>
                <a:gridCol w="1619280"/>
                <a:gridCol w="1008360"/>
                <a:gridCol w="1152360"/>
                <a:gridCol w="1152360"/>
                <a:gridCol w="1152720"/>
                <a:gridCol w="1295280"/>
                <a:gridCol w="15130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лозап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ланзап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Зипрасид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ветиапи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Рисперидо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r-RS" sz="1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Ариприпразо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c0504d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HT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2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+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+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α</a:t>
                      </a:r>
                      <a:r>
                        <a:rPr b="0" lang="el-GR" sz="18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c0504d"/>
                      </a:solidFill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R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c0504d"/>
                      </a:solidFill>
                    </a:lnR>
                    <a:lnT w="5760">
                      <a:solidFill>
                        <a:srgbClr val="c0504d"/>
                      </a:solidFill>
                    </a:lnT>
                    <a:lnB w="5760">
                      <a:solidFill>
                        <a:srgbClr val="c0504d"/>
                      </a:solidFill>
                    </a:lnB>
                    <a:solidFill>
                      <a:srgbClr val="f4e9e9"/>
                    </a:solidFill>
                  </a:tcPr>
                </a:tc>
              </a:tr>
            </a:tbl>
          </a:graphicData>
        </a:graphic>
      </p:graphicFrame>
      <p:sp>
        <p:nvSpPr>
          <p:cNvPr id="109" name="TextBox 6"/>
          <p:cNvSpPr/>
          <p:nvPr/>
        </p:nvSpPr>
        <p:spPr>
          <a:xfrm>
            <a:off x="0" y="6408720"/>
            <a:ext cx="9144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Тhe Аmerican psychiatric association practice guideline for the treatment of patients with schizophrenia преузето са www.psychiatry.org › APA-Draft-Schizophrenia-Treatment-Guidelin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5560" y="475920"/>
            <a:ext cx="82184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Фармакокинетик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46040" y="1383840"/>
            <a:ext cx="8229600" cy="503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Већина се лако али непотпуно апрорбу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Већина подлеже метаболизму првог проласк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В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ећином 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су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липосолубилни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, и везују се за протеине плазме (92-99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Д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обро продиру у сва ткива и дуго се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задржавају у организму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(волумен дистрибуције од 7l/k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Клинички ефекат траје знатно дуже од времена полуелиминациј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5560" y="620280"/>
            <a:ext cx="821844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Фармакокинетик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46040" y="2133720"/>
            <a:ext cx="8229600" cy="55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У јетри се метаболишу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или диметилацијом или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оксидацијом па затим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коњугацијом до неактивних, хидросолубилних деривата који се елиминишу путем урина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(и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зузетак тиоридазин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450 CYP2D6,1A2, 3A4-могуће интеракције-&gt; клиничка занчајност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Спречавају повраћањ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35344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ежељен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дејств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748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еселективност →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осим мезо-лимбичког и мезо-кортикалног пута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блокирају рецепторе 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 у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другим допаминергичким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путевим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след блокаде нигро-стријатног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пута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(типични антипсихотици (халоперидол....хлорпромазин...сулпирид).....рисперидон (високе дозе)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индром слич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Паркинсоновој болести (акинезија, тремор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ригидитет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катизије (напади хипермотилитета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кутн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дистонијa (кривљење врата,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главе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3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Честе у првих неколико недеља примене лека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3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реверзибилне по прекиду?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Т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ардивн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дискинезиј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 (хореиформни покрет</a:t>
            </a:r>
            <a:r>
              <a:rPr b="0" lang="sr-CS" sz="20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3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20-40%- потребно време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312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Иреверзибилна, погоршање по прекиду, резистентна на лечење?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Nirmala UI"/>
              </a:rPr>
              <a:t>Неуротрансмитери у ЦН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Nirmala UI"/>
              </a:rPr>
              <a:t>На основу хемијске структуре деле се н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Nirmala UI"/>
              </a:rPr>
              <a:t>Аминокиселин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Nirmala UI"/>
              </a:rPr>
              <a:t>Биогене амин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Nirmala UI"/>
              </a:rPr>
              <a:t>Неуропептиде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5280" y="404640"/>
            <a:ext cx="8353440" cy="9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ежељен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дејств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353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локад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туберо-инфундибуларног пута и повећан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секрециј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пролактина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типични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антипсихоти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ци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, рисперидон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, палиперидон,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понекад оланзапин и зипрасидон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Л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учења млека (галактореј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менореј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Отицање дојки, бол, г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инекомастиј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Г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убит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к либида код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мушкараца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појачањ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е</a:t>
            </a:r>
            <a:r>
              <a:rPr b="0" lang="sr-Latn-CS" sz="2400" spc="-1" strike="noStrike">
                <a:solidFill>
                  <a:srgbClr val="000000"/>
                </a:solidFill>
                <a:latin typeface="Calibri"/>
              </a:rPr>
              <a:t> либида код жен</a:t>
            </a:r>
            <a:r>
              <a:rPr b="0" lang="sr-CS" sz="24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95280" y="1699920"/>
            <a:ext cx="8362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Блокада </a:t>
            </a:r>
            <a:r>
              <a:rPr b="0" lang="sr-Latn-CS" sz="1900" spc="-1" strike="noStrike">
                <a:solidFill>
                  <a:srgbClr val="000000"/>
                </a:solidFill>
                <a:latin typeface="Calibri"/>
              </a:rPr>
              <a:t>мускаринск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их</a:t>
            </a:r>
            <a:r>
              <a:rPr b="0" lang="sr-Latn-CS" sz="1900" spc="-1" strike="noStrike">
                <a:solidFill>
                  <a:srgbClr val="000000"/>
                </a:solidFill>
                <a:latin typeface="Calibri"/>
              </a:rPr>
              <a:t> рецептор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а (</a:t>
            </a:r>
            <a:r>
              <a:rPr b="0" lang="sr-Latn-CS" sz="1900" spc="-1" strike="noStrike">
                <a:solidFill>
                  <a:srgbClr val="000000"/>
                </a:solidFill>
                <a:latin typeface="Calibri"/>
              </a:rPr>
              <a:t>фенотиазин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и, клозапин): </a:t>
            </a:r>
            <a:r>
              <a:rPr b="0" lang="sr-Latn-CS" sz="1900" spc="-1" strike="noStrike">
                <a:solidFill>
                  <a:srgbClr val="000000"/>
                </a:solidFill>
                <a:latin typeface="Calibri"/>
              </a:rPr>
              <a:t>опстипациј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sr-Latn-CS" sz="1900" spc="-1" strike="noStrike">
                <a:solidFill>
                  <a:srgbClr val="000000"/>
                </a:solidFill>
                <a:latin typeface="Calibri"/>
              </a:rPr>
              <a:t>, отежано мокрење,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1900" spc="-1" strike="noStrike">
                <a:solidFill>
                  <a:srgbClr val="000000"/>
                </a:solidFill>
                <a:latin typeface="Calibri"/>
              </a:rPr>
              <a:t>сувоћ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sr-Latn-CS" sz="1900" spc="-1" strike="noStrike">
                <a:solidFill>
                  <a:srgbClr val="000000"/>
                </a:solidFill>
                <a:latin typeface="Calibri"/>
              </a:rPr>
              <a:t> уста, отежано знојење, поремећај акомодације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, ИО притиска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Блокада </a:t>
            </a:r>
            <a:r>
              <a:rPr b="0" lang="el-GR" sz="1900" spc="-1" strike="noStrike">
                <a:solidFill>
                  <a:srgbClr val="000000"/>
                </a:solidFill>
                <a:latin typeface="Calibri"/>
              </a:rPr>
              <a:t>α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1900" spc="-1" strike="noStrike">
                <a:solidFill>
                  <a:srgbClr val="000000"/>
                </a:solidFill>
                <a:latin typeface="Calibri"/>
              </a:rPr>
              <a:t>адренергичк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их</a:t>
            </a:r>
            <a:r>
              <a:rPr b="0" lang="sr-Latn-CS" sz="1900" spc="-1" strike="noStrike">
                <a:solidFill>
                  <a:srgbClr val="000000"/>
                </a:solidFill>
                <a:latin typeface="Calibri"/>
              </a:rPr>
              <a:t> рецептор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а: </a:t>
            </a:r>
            <a:r>
              <a:rPr b="0" lang="sr-Latn-CS" sz="1900" spc="-1" strike="noStrike">
                <a:solidFill>
                  <a:srgbClr val="000000"/>
                </a:solidFill>
                <a:latin typeface="Calibri"/>
              </a:rPr>
              <a:t>постуралн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sr-Latn-CS" sz="1900" spc="-1" strike="noStrike">
                <a:solidFill>
                  <a:srgbClr val="000000"/>
                </a:solidFill>
                <a:latin typeface="Calibri"/>
              </a:rPr>
              <a:t> хипотензиј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а, </a:t>
            </a:r>
            <a:r>
              <a:rPr b="0" lang="sr-Latn-CS" sz="1900" spc="-1" strike="noStrike">
                <a:solidFill>
                  <a:srgbClr val="000000"/>
                </a:solidFill>
                <a:latin typeface="Calibri"/>
              </a:rPr>
              <a:t>немогућност ејакулације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900" spc="-1" strike="noStrike">
                <a:solidFill>
                  <a:srgbClr val="000000"/>
                </a:solidFill>
                <a:latin typeface="Calibri"/>
              </a:rPr>
              <a:t>Хипотермиј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а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Седација (највише клозапин, оланзапин и фенотиазини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sr-Latn-CS" sz="1900" spc="-1" strike="noStrike">
                <a:solidFill>
                  <a:srgbClr val="000000"/>
                </a:solidFill>
                <a:latin typeface="Calibri"/>
              </a:rPr>
              <a:t>оремећај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1900" spc="-1" strike="noStrike">
                <a:solidFill>
                  <a:srgbClr val="000000"/>
                </a:solidFill>
                <a:latin typeface="Calibri"/>
              </a:rPr>
              <a:t> ритма срца (посебно тиоридазин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 који</a:t>
            </a:r>
            <a:r>
              <a:rPr b="0" lang="sr-Latn-CS" sz="1900" spc="-1" strike="noStrike">
                <a:solidFill>
                  <a:srgbClr val="000000"/>
                </a:solidFill>
                <a:latin typeface="Calibri"/>
              </a:rPr>
              <a:t> изазива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1900" spc="-1" strike="noStrike">
                <a:solidFill>
                  <a:srgbClr val="000000"/>
                </a:solidFill>
                <a:latin typeface="Calibri"/>
              </a:rPr>
              <a:t>продужење QT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1900" spc="-1" strike="noStrike">
                <a:solidFill>
                  <a:srgbClr val="000000"/>
                </a:solidFill>
                <a:latin typeface="Calibri"/>
              </a:rPr>
              <a:t>интервала)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Про</a:t>
            </a:r>
            <a:r>
              <a:rPr b="0" lang="sr-Latn-CS" sz="1900" spc="-1" strike="noStrike">
                <a:solidFill>
                  <a:srgbClr val="000000"/>
                </a:solidFill>
                <a:latin typeface="Calibri"/>
              </a:rPr>
              <a:t>епилептоген</a:t>
            </a:r>
            <a:r>
              <a:rPr b="0" lang="sr-CS" sz="1900" spc="-1" strike="noStrike">
                <a:solidFill>
                  <a:srgbClr val="000000"/>
                </a:solidFill>
                <a:latin typeface="Calibri"/>
              </a:rPr>
              <a:t>и ефекат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394920" y="43920"/>
            <a:ext cx="821844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ежељен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дејств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95280" y="1680840"/>
            <a:ext cx="822960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alibri"/>
              </a:rPr>
              <a:t>Ретко,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500" spc="-1" strike="noStrike">
                <a:solidFill>
                  <a:srgbClr val="000000"/>
                </a:solidFill>
                <a:latin typeface="Calibri"/>
              </a:rPr>
              <a:t>неуролептички малигни синдром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sr-Latn-CS" sz="2500" spc="-1" strike="noStrike">
                <a:solidFill>
                  <a:srgbClr val="000000"/>
                </a:solidFill>
                <a:latin typeface="Calibri"/>
              </a:rPr>
              <a:t>мишићни ригор, пораст телесне температуре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0" lang="sr-Latn-CS" sz="2500" spc="-1" strike="noStrike">
                <a:solidFill>
                  <a:srgbClr val="000000"/>
                </a:solidFill>
                <a:latin typeface="Calibri"/>
              </a:rPr>
              <a:t> хипотензиј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а,</a:t>
            </a:r>
            <a:r>
              <a:rPr b="0" lang="sr-Latn-CS" sz="2500" spc="-1" strike="noStrike">
                <a:solidFill>
                  <a:srgbClr val="000000"/>
                </a:solidFill>
                <a:latin typeface="Calibri"/>
              </a:rPr>
              <a:t> шокно стање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sr-Latn-CS" sz="25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sr-Latn-CS" sz="2500" spc="-1" strike="noStrike">
                <a:solidFill>
                  <a:srgbClr val="000000"/>
                </a:solidFill>
                <a:latin typeface="Calibri"/>
              </a:rPr>
              <a:t>локад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sr-Latn-CS" sz="2500" spc="-1" strike="noStrike">
                <a:solidFill>
                  <a:srgbClr val="000000"/>
                </a:solidFill>
                <a:latin typeface="Calibri"/>
              </a:rPr>
              <a:t> H1 хистаминергичких рецептора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 -</a:t>
            </a:r>
            <a:r>
              <a:rPr b="0" lang="sr-Latn-CS" sz="2500" spc="-1" strike="noStrike">
                <a:solidFill>
                  <a:srgbClr val="000000"/>
                </a:solidFill>
                <a:latin typeface="Calibri"/>
              </a:rPr>
              <a:t> седациј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sr-Latn-C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Latn-CS" sz="2500" spc="-1" strike="noStrike">
                <a:solidFill>
                  <a:srgbClr val="000000"/>
                </a:solidFill>
                <a:latin typeface="Calibri"/>
              </a:rPr>
              <a:t>посебно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500" spc="-1" strike="noStrike">
                <a:solidFill>
                  <a:srgbClr val="000000"/>
                </a:solidFill>
                <a:latin typeface="Calibri"/>
              </a:rPr>
              <a:t>фенотиазини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Ф</a:t>
            </a:r>
            <a:r>
              <a:rPr b="0" lang="sr-Latn-CS" sz="2500" spc="-1" strike="noStrike">
                <a:solidFill>
                  <a:srgbClr val="000000"/>
                </a:solidFill>
                <a:latin typeface="Calibri"/>
              </a:rPr>
              <a:t>отосензибилизациј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Леукопенија и агранулоцитоза 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(к</a:t>
            </a:r>
            <a:r>
              <a:rPr b="0" lang="sr-Latn-CS" sz="2500" spc="-1" strike="noStrike">
                <a:solidFill>
                  <a:srgbClr val="000000"/>
                </a:solidFill>
                <a:latin typeface="Calibri"/>
              </a:rPr>
              <a:t>лозапин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1-2%; реверзибилна уколико се одмах уочи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Гојазност (</a:t>
            </a:r>
            <a:r>
              <a:rPr b="0" lang="sr-Latn-CS" sz="2500" spc="-1" strike="noStrike">
                <a:solidFill>
                  <a:srgbClr val="000000"/>
                </a:solidFill>
                <a:latin typeface="Calibri"/>
              </a:rPr>
              <a:t>клозапин и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500" spc="-1" strike="noStrike">
                <a:solidFill>
                  <a:srgbClr val="000000"/>
                </a:solidFill>
                <a:latin typeface="Calibri"/>
              </a:rPr>
              <a:t>оланзапин</a:t>
            </a:r>
            <a:r>
              <a:rPr b="0" lang="sr-CS" sz="2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Жутица (хлорпромазин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Уртикарија- често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394920" y="43920"/>
            <a:ext cx="821844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Н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ежељен</a:t>
            </a:r>
            <a:r>
              <a:rPr b="0" lang="sr-CS" sz="3000" spc="-1" strike="noStrike">
                <a:solidFill>
                  <a:srgbClr val="000000"/>
                </a:solidFill>
                <a:latin typeface="Calibri"/>
              </a:rPr>
              <a:t>а </a:t>
            </a:r>
            <a:r>
              <a:rPr b="0" lang="sr-Latn-CS" sz="3000" spc="-1" strike="noStrike">
                <a:solidFill>
                  <a:srgbClr val="000000"/>
                </a:solidFill>
                <a:latin typeface="Calibri"/>
              </a:rPr>
              <a:t>дејств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4920" y="766800"/>
            <a:ext cx="821844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500" spc="-1" strike="noStrike">
                <a:solidFill>
                  <a:srgbClr val="000000"/>
                </a:solidFill>
                <a:latin typeface="Calibri"/>
              </a:rPr>
              <a:t>Клинички важније интеракције антипсихотика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394920" y="1538280"/>
            <a:ext cx="828036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Антипсихотици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ојачавају хипотензивни ефекат општих анестетик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Паралена примена са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антиаритмицима који продужавају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QT-интервал или са метадоном →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пораст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 ризик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настанка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срчаних аритмија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П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овећавају концентрацију 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трициклика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у крв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мањују антиконвулзивни ефекат антиепилептик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Метаболизам клозапина убрзава карбамазепин, а успоравају флуоксетин,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еритромицин,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пароксетин, инхибитори протеазе, сертралин или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венлафаксин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5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Инхибитори протеазе (ритонавир, индинавир) инхибирају метаболизам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многих антипсихот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и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ка (н</a:t>
            </a:r>
            <a:r>
              <a:rPr b="0" lang="sr-CS" sz="2200" spc="-1" strike="noStrike">
                <a:solidFill>
                  <a:srgbClr val="000000"/>
                </a:solidFill>
                <a:latin typeface="Calibri"/>
              </a:rPr>
              <a:t>а пример</a:t>
            </a:r>
            <a:r>
              <a:rPr b="0" lang="sr-Latn-CS" sz="2200" spc="-1" strike="noStrike">
                <a:solidFill>
                  <a:srgbClr val="000000"/>
                </a:solidFill>
                <a:latin typeface="Calibri"/>
              </a:rPr>
              <a:t> арипипразола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94920" y="1630440"/>
            <a:ext cx="828036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Calibri"/>
              </a:rPr>
              <a:t>К</a:t>
            </a:r>
            <a:r>
              <a:rPr b="0" lang="sr-Latn-CS" sz="2300" spc="-1" strike="noStrike">
                <a:solidFill>
                  <a:srgbClr val="000000"/>
                </a:solidFill>
                <a:latin typeface="Calibri"/>
              </a:rPr>
              <a:t>лозапин </a:t>
            </a:r>
            <a:r>
              <a:rPr b="0" lang="sr-CS" sz="2300" spc="-1" strike="noStrike">
                <a:solidFill>
                  <a:srgbClr val="000000"/>
                </a:solidFill>
                <a:latin typeface="Calibri"/>
              </a:rPr>
              <a:t>у комбинацији </a:t>
            </a:r>
            <a:r>
              <a:rPr b="0" lang="sr-Latn-CS" sz="2300" spc="-1" strike="noStrike">
                <a:solidFill>
                  <a:srgbClr val="000000"/>
                </a:solidFill>
                <a:latin typeface="Calibri"/>
              </a:rPr>
              <a:t>са</a:t>
            </a:r>
            <a:r>
              <a:rPr b="0" lang="sr-C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300" spc="-1" strike="noStrike">
                <a:solidFill>
                  <a:srgbClr val="000000"/>
                </a:solidFill>
                <a:latin typeface="Calibri"/>
              </a:rPr>
              <a:t>хлорамфениколом, пенициламином, сулфонамидима или цитостатицима → </a:t>
            </a:r>
            <a:r>
              <a:rPr b="0" lang="sr-CS" sz="2300" spc="-1" strike="noStrike">
                <a:solidFill>
                  <a:srgbClr val="000000"/>
                </a:solidFill>
                <a:latin typeface="Calibri"/>
              </a:rPr>
              <a:t>пораст</a:t>
            </a:r>
            <a:r>
              <a:rPr b="0" lang="sr-Latn-CS" sz="2300" spc="-1" strike="noStrike">
                <a:solidFill>
                  <a:srgbClr val="000000"/>
                </a:solidFill>
                <a:latin typeface="Calibri"/>
              </a:rPr>
              <a:t> ризик</a:t>
            </a:r>
            <a:r>
              <a:rPr b="0" lang="sr-CS" sz="23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sr-Latn-C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CS" sz="2300" spc="-1" strike="noStrike">
                <a:solidFill>
                  <a:srgbClr val="000000"/>
                </a:solidFill>
                <a:latin typeface="Calibri"/>
              </a:rPr>
              <a:t>развоја </a:t>
            </a:r>
            <a:r>
              <a:rPr b="0" lang="sr-Latn-CS" sz="2300" spc="-1" strike="noStrike">
                <a:solidFill>
                  <a:srgbClr val="000000"/>
                </a:solidFill>
                <a:latin typeface="Calibri"/>
              </a:rPr>
              <a:t>агранулоцитозе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Calibri"/>
              </a:rPr>
              <a:t>О</a:t>
            </a:r>
            <a:r>
              <a:rPr b="0" lang="sr-Latn-CS" sz="2300" spc="-1" strike="noStrike">
                <a:solidFill>
                  <a:srgbClr val="000000"/>
                </a:solidFill>
                <a:latin typeface="Calibri"/>
              </a:rPr>
              <a:t>ланзапин заједно са валпроатом → </a:t>
            </a:r>
            <a:r>
              <a:rPr b="0" lang="sr-CS" sz="2300" spc="-1" strike="noStrike">
                <a:solidFill>
                  <a:srgbClr val="000000"/>
                </a:solidFill>
                <a:latin typeface="Calibri"/>
              </a:rPr>
              <a:t>пораст </a:t>
            </a:r>
            <a:r>
              <a:rPr b="0" lang="sr-Latn-CS" sz="2300" spc="-1" strike="noStrike">
                <a:solidFill>
                  <a:srgbClr val="000000"/>
                </a:solidFill>
                <a:latin typeface="Calibri"/>
              </a:rPr>
              <a:t>ризик</a:t>
            </a:r>
            <a:r>
              <a:rPr b="0" lang="sr-CS" sz="2300" spc="-1" strike="noStrike">
                <a:solidFill>
                  <a:srgbClr val="000000"/>
                </a:solidFill>
                <a:latin typeface="Calibri"/>
              </a:rPr>
              <a:t>а</a:t>
            </a:r>
            <a:r>
              <a:rPr b="0" lang="sr-Latn-CS" sz="2300" spc="-1" strike="noStrike">
                <a:solidFill>
                  <a:srgbClr val="000000"/>
                </a:solidFill>
                <a:latin typeface="Calibri"/>
              </a:rPr>
              <a:t> настанка</a:t>
            </a:r>
            <a:r>
              <a:rPr b="0" lang="sr-C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300" spc="-1" strike="noStrike">
                <a:solidFill>
                  <a:srgbClr val="000000"/>
                </a:solidFill>
                <a:latin typeface="Calibri"/>
              </a:rPr>
              <a:t>неутропеније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Calibri"/>
              </a:rPr>
              <a:t>Амјодарон, дизопирамид, парентерално примењен</a:t>
            </a:r>
            <a:r>
              <a:rPr b="0" lang="sr-C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300" spc="-1" strike="noStrike">
                <a:solidFill>
                  <a:srgbClr val="000000"/>
                </a:solidFill>
                <a:latin typeface="Calibri"/>
              </a:rPr>
              <a:t>еритромицин,</a:t>
            </a:r>
            <a:r>
              <a:rPr b="0" lang="sr-C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300" spc="-1" strike="noStrike">
                <a:solidFill>
                  <a:srgbClr val="000000"/>
                </a:solidFill>
                <a:latin typeface="Calibri"/>
              </a:rPr>
              <a:t>халоперидол и</a:t>
            </a:r>
            <a:r>
              <a:rPr b="0" lang="sr-CS" sz="2300" spc="-1" strike="noStrike">
                <a:solidFill>
                  <a:srgbClr val="000000"/>
                </a:solidFill>
                <a:latin typeface="Calibri"/>
              </a:rPr>
              <a:t>ли </a:t>
            </a:r>
            <a:r>
              <a:rPr b="0" lang="sr-Latn-CS" sz="2300" spc="-1" strike="noStrike">
                <a:solidFill>
                  <a:srgbClr val="000000"/>
                </a:solidFill>
                <a:latin typeface="Calibri"/>
              </a:rPr>
              <a:t>соталол повећавају проаритмогено дејство сулпирида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Calibri"/>
              </a:rPr>
              <a:t>Амјодарон, дизопирамид, моксифлоксацин, сулпирид и</a:t>
            </a:r>
            <a:r>
              <a:rPr b="0" lang="sr-CS" sz="2300" spc="-1" strike="noStrike">
                <a:solidFill>
                  <a:srgbClr val="000000"/>
                </a:solidFill>
                <a:latin typeface="Calibri"/>
              </a:rPr>
              <a:t>ли</a:t>
            </a:r>
            <a:r>
              <a:rPr b="0" lang="sr-Latn-CS" sz="2300" spc="-1" strike="noStrike">
                <a:solidFill>
                  <a:srgbClr val="000000"/>
                </a:solidFill>
                <a:latin typeface="Calibri"/>
              </a:rPr>
              <a:t> соталол повећавају</a:t>
            </a:r>
            <a:r>
              <a:rPr b="0" lang="sr-C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300" spc="-1" strike="noStrike">
                <a:solidFill>
                  <a:srgbClr val="000000"/>
                </a:solidFill>
                <a:latin typeface="Calibri"/>
              </a:rPr>
              <a:t>проаритмогено дејство</a:t>
            </a:r>
            <a:r>
              <a:rPr b="0" lang="sr-CS" sz="2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r-Latn-CS" sz="2300" spc="-1" strike="noStrike">
                <a:solidFill>
                  <a:srgbClr val="000000"/>
                </a:solidFill>
                <a:latin typeface="Calibri"/>
              </a:rPr>
              <a:t>халоперидола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Calibri"/>
              </a:rPr>
              <a:t>Пропранолол повећава концентрацију хлорпромазина у крви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385560" y="43920"/>
            <a:ext cx="821844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Calibri"/>
              </a:rPr>
              <a:t>Клинички важније интеракције антипсихотика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94920" y="1630440"/>
            <a:ext cx="828036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Индивидуално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Удружене болести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Биохемијски парамети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Уколико пацијент не реагуе на најмаље 2 различита лека (4-6 недеља сваки) применити клозапин (проверавати број Le првих 5 месеци терапије 1 недељно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Због компијансе најбоље 1 дневно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Алкохо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Не прекидати терапију када дође до побољшањ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Избегавати изузетно топле просторије или прострије са великом влажношћу ваздух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Вожња аутомобила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Уколико пацијент одбија терапију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per os-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депо препарати 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385560" y="43920"/>
            <a:ext cx="821844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Дозирање антипсихот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94920" y="1484280"/>
            <a:ext cx="828036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Im примена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Капринска киселина (деканска киселина- засићена масна киселина--- флуфеназин или халоперидол-деканоат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Палмитинска киселина (палиперидон)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Микросфере-полимери млечне киселине и гликолне киселине- депо препарат рисперидона (7525 polylactide-co-glycolide (PLG) [381 mg рисперидона/1g микросфере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Calibri"/>
              </a:rPr>
              <a:t>Постепена хидролизација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385560" y="43920"/>
            <a:ext cx="821844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Депо препарати антипсихотика –Р Србиј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Трудноћ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Пацијенткиње морају користити терапију и у трудноћ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Могућ тератоген ефекат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sr-RS" sz="3200" spc="-1" strike="noStrike">
                <a:solidFill>
                  <a:srgbClr val="000000"/>
                </a:solidFill>
                <a:latin typeface="Calibri"/>
              </a:rPr>
              <a:t>већина у групи Ц-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D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Екстрапирамидална нежељена дејства, агитација, хипертонија, хипотонија, тремор, сомноленција, респираторни дистрес, поремећај исхране и тежин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800" spc="-1" strike="noStrike">
                <a:solidFill>
                  <a:srgbClr val="000000"/>
                </a:solidFill>
                <a:latin typeface="Calibri"/>
              </a:rPr>
              <a:t>Пратити труднице, хипергликемија и повећање телесне тежине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395280" y="1915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5000"/>
              </a:lnSpc>
              <a:spcBef>
                <a:spcPts val="32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300" spc="-1" strike="noStrike">
                <a:solidFill>
                  <a:srgbClr val="000000"/>
                </a:solidFill>
                <a:latin typeface="Calibri"/>
              </a:rPr>
              <a:t>Јанковић С. Приручник за практичну наставу и фармакологије и токсикологије. 2018, Факултет медицинских наука, Крагујевац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5000"/>
              </a:lnSpc>
              <a:spcBef>
                <a:spcPts val="32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300" spc="-1" strike="noStrike">
                <a:solidFill>
                  <a:srgbClr val="000000"/>
                </a:solidFill>
                <a:latin typeface="Calibri"/>
              </a:rPr>
              <a:t>Јанковић С, Фармакологија и токсикологија. 2011, Медицински факултет у Крагујевцу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5000"/>
              </a:lnSpc>
              <a:spcBef>
                <a:spcPts val="32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ang i Dale</a:t>
            </a:r>
            <a:r>
              <a:rPr b="0" lang="sr-RS" sz="1300" spc="-1" strike="noStrike">
                <a:solidFill>
                  <a:srgbClr val="000000"/>
                </a:solidFill>
                <a:latin typeface="Calibri"/>
              </a:rPr>
              <a:t>.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Farmakologija, 8. izdanje</a:t>
            </a:r>
            <a:r>
              <a:rPr b="0" lang="sr-RS" sz="1300" spc="-1" strike="noStrike">
                <a:solidFill>
                  <a:srgbClr val="000000"/>
                </a:solidFill>
                <a:latin typeface="Calibri"/>
              </a:rPr>
              <a:t>. 2019,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ta Statu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5000"/>
              </a:lnSpc>
              <a:spcBef>
                <a:spcPts val="32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Joint Formulary Committee</a:t>
            </a:r>
            <a:r>
              <a:rPr b="0" lang="sr-RS" sz="13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BNF 78 (British National Formulary) September 2019</a:t>
            </a:r>
            <a:r>
              <a:rPr b="0" lang="sr-RS" sz="1300" spc="-1" strike="noStrike">
                <a:solidFill>
                  <a:srgbClr val="000000"/>
                </a:solidFill>
                <a:latin typeface="Calibri"/>
              </a:rPr>
              <a:t>. 2019,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acmillan Distribu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5000"/>
              </a:lnSpc>
              <a:spcBef>
                <a:spcPts val="32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Calibri"/>
              </a:rPr>
              <a:t>Katzung</a:t>
            </a:r>
            <a:r>
              <a:rPr b="0" lang="sr-RS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de-DE" sz="1300" spc="-1" strike="noStrike">
                <a:solidFill>
                  <a:srgbClr val="000000"/>
                </a:solidFill>
                <a:latin typeface="Calibri"/>
              </a:rPr>
              <a:t>B, Trevor</a:t>
            </a:r>
            <a:r>
              <a:rPr b="0" lang="sr-RS" sz="1300" spc="-1" strike="noStrike">
                <a:solidFill>
                  <a:srgbClr val="000000"/>
                </a:solidFill>
                <a:latin typeface="Calibri"/>
              </a:rPr>
              <a:t> А.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Basic and Clinical Pharmacology, 14th Edition</a:t>
            </a:r>
            <a:r>
              <a:rPr b="0" lang="sr-RS" sz="13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 </a:t>
            </a:r>
            <a:r>
              <a:rPr b="0" lang="sr-RS" sz="1300" spc="-1" strike="noStrike">
                <a:solidFill>
                  <a:srgbClr val="000000"/>
                </a:solidFill>
                <a:latin typeface="Calibri"/>
              </a:rPr>
              <a:t>2017,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cGraw Hil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5000"/>
              </a:lnSpc>
              <a:spcBef>
                <a:spcPts val="32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hittlesea</a:t>
            </a:r>
            <a:r>
              <a:rPr b="0" lang="sr-RS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, Hodson</a:t>
            </a:r>
            <a:r>
              <a:rPr b="0" lang="sr-RS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K</a:t>
            </a:r>
            <a:r>
              <a:rPr b="0" lang="sr-RS" sz="13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nical Pharmacy and Therapeutics, International Edition, 6th Edition</a:t>
            </a:r>
            <a:r>
              <a:rPr b="0" lang="sr-RS" sz="1300" spc="-1" strike="noStrike">
                <a:solidFill>
                  <a:srgbClr val="000000"/>
                </a:solidFill>
                <a:latin typeface="Calibri"/>
              </a:rPr>
              <a:t>.  2018,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lsevier Scienc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5000"/>
              </a:lnSpc>
              <a:spcBef>
                <a:spcPts val="32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iffen</a:t>
            </a:r>
            <a:r>
              <a:rPr b="0" lang="sr-RS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P, Mitchell</a:t>
            </a:r>
            <a:r>
              <a:rPr b="0" lang="sr-RS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, Snelling</a:t>
            </a:r>
            <a:r>
              <a:rPr b="0" lang="sr-RS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, Stoner</a:t>
            </a:r>
            <a:r>
              <a:rPr b="0" lang="sr-RS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N</a:t>
            </a:r>
            <a:r>
              <a:rPr b="0" lang="sr-RS" sz="13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Oxford Handbook of Clinical Pharmacy (Oxford Medical Handbooks)</a:t>
            </a:r>
            <a:r>
              <a:rPr b="0" lang="sr-RS" sz="1300" spc="-1" strike="noStrike">
                <a:solidFill>
                  <a:srgbClr val="000000"/>
                </a:solidFill>
                <a:latin typeface="Calibri"/>
              </a:rPr>
              <a:t>. 2017,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Oxford University Pres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5000"/>
              </a:lnSpc>
              <a:spcBef>
                <a:spcPts val="32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300" spc="-1" strike="noStrike">
                <a:solidFill>
                  <a:srgbClr val="000000"/>
                </a:solidFill>
                <a:latin typeface="Calibri"/>
              </a:rPr>
              <a:t>АЛИМС.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rednici:, Nenad Ugrešić, Vesela Radonjić, Ljiljana Đukić, Violeta Stanimirović, Branka Terzić</a:t>
            </a:r>
            <a:r>
              <a:rPr b="0" lang="sr-RS" sz="1300" spc="-1" strike="noStrike">
                <a:solidFill>
                  <a:srgbClr val="000000"/>
                </a:solidFill>
                <a:latin typeface="Calibri"/>
              </a:rPr>
              <a:t>.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armakoterapijski vodič 6</a:t>
            </a:r>
            <a:r>
              <a:rPr b="0" lang="sr-RS" sz="1300" spc="-1" strike="noStrike">
                <a:solidFill>
                  <a:srgbClr val="000000"/>
                </a:solidFill>
                <a:latin typeface="Calibri"/>
              </a:rPr>
              <a:t>. 2016.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gencija za lekove i medicinska sredstva Srbije</a:t>
            </a:r>
            <a:r>
              <a:rPr b="0" lang="sr-RS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Beograd.</a:t>
            </a:r>
            <a:r>
              <a:rPr b="0" lang="sr-RS" sz="13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mPC</a:t>
            </a:r>
            <a:r>
              <a:rPr b="0" lang="sr-RS" sz="1300" spc="-1" strike="noStrike">
                <a:solidFill>
                  <a:srgbClr val="000000"/>
                </a:solidFill>
                <a:latin typeface="Calibri"/>
              </a:rPr>
              <a:t> лекова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- https://www.alims.gov.rs/ciril/lekovi/</a:t>
            </a:r>
            <a:r>
              <a:rPr b="0" lang="sr-R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5000"/>
              </a:lnSpc>
              <a:spcBef>
                <a:spcPts val="32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alker R, Whittlesea C. Clinical Pharmacy and Therapeutics. 2012 Elsevier Ltd.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5000"/>
              </a:lnSpc>
              <a:spcBef>
                <a:spcPts val="32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e American psychiatric association practice guideline for the treatment of patients with schizophrenia</a:t>
            </a:r>
            <a:r>
              <a:rPr b="0" lang="sr-RS" sz="1300" spc="-1" strike="noStrike">
                <a:solidFill>
                  <a:srgbClr val="000000"/>
                </a:solidFill>
                <a:latin typeface="Calibri"/>
              </a:rPr>
              <a:t>. Доступно на: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ww.psychiatry.org › APA-Draft-Schizophrenia-Treatment-Guidelin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5000"/>
              </a:lnSpc>
              <a:spcBef>
                <a:spcPts val="32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uidelines on Choice and Selection of Antipsychotics for the Management of Psychosis and Schizophrenia in Adults</a:t>
            </a:r>
            <a:r>
              <a:rPr b="0" lang="sr-RS" sz="1300" spc="-1" strike="noStrike">
                <a:solidFill>
                  <a:srgbClr val="000000"/>
                </a:solidFill>
                <a:latin typeface="Calibri"/>
              </a:rPr>
              <a:t>. Доступно на: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ttps://www.hpft.nhs.uk/media/3350/final-guidance-on-choice-and-selection-of-antipsychotics-in-management-of-psychosis-and-schizophrenia-dec-2016-amended-nov-18-docx.pdf</a:t>
            </a:r>
            <a:r>
              <a:rPr b="0" lang="sr-RS" sz="1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85000"/>
              </a:lnSpc>
              <a:spcBef>
                <a:spcPts val="326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uidelines for the Administration of Long Acting Antipsychotic Injections in Adults</a:t>
            </a:r>
            <a:r>
              <a:rPr b="0" lang="sr-RS" sz="1300" spc="-1" strike="noStrike">
                <a:solidFill>
                  <a:srgbClr val="000000"/>
                </a:solidFill>
                <a:latin typeface="Calibri"/>
              </a:rPr>
              <a:t>. Доступно на: 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ttp://www.sussexpartnership.nhs.uk/sites/default/files/documents/long_acting_antipsychotic_guidelines_-_ver_4_final_may_140.pdf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85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85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85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85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457200" indent="0">
              <a:lnSpc>
                <a:spcPct val="85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title"/>
          </p:nvPr>
        </p:nvSpPr>
        <p:spPr>
          <a:xfrm>
            <a:off x="394920" y="43920"/>
            <a:ext cx="821844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Литератур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Nirmala UI"/>
              </a:rPr>
              <a:t>Аминокиселине као трансмитер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Nirmala UI"/>
              </a:rPr>
              <a:t>Ексцитаторне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Nirmala UI"/>
              </a:rPr>
              <a:t>L-глутама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Nirmala UI"/>
              </a:rPr>
              <a:t>аспартат (сличну улогу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Nirmala UI"/>
              </a:rPr>
              <a:t>Инхибиторне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Nirmala UI"/>
              </a:rPr>
              <a:t>GAB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Nirmala UI"/>
              </a:rPr>
              <a:t>Глицин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Nirmala UI"/>
              </a:rPr>
              <a:t>Аминокиселине као трансмитер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Nirmala UI"/>
              </a:rPr>
              <a:t>L-</a:t>
            </a:r>
            <a:r>
              <a:rPr b="0" lang="sr-RS" sz="2800" spc="-1" strike="noStrike">
                <a:solidFill>
                  <a:srgbClr val="000000"/>
                </a:solidFill>
                <a:latin typeface="Calibri"/>
                <a:ea typeface="Nirmala UI"/>
              </a:rPr>
              <a:t>глутама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Nirmala UI"/>
              </a:rPr>
              <a:t>Неесенцијална аминокиселина (синтетише се из локалних прекурсора—&gt;  глутамин/глукоз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Nirmala UI"/>
              </a:rPr>
              <a:t>Рецептори за глутама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Nirmala UI"/>
              </a:rPr>
              <a:t>Јонотроп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Nirmala UI"/>
              </a:rPr>
              <a:t>NMDA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Calibri"/>
                <a:ea typeface="Nirmala UI"/>
              </a:rPr>
              <a:t>Антагонисти : кетамин) и мемантин једини у клиничкој употреби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Nirmala UI"/>
              </a:rPr>
              <a:t>Non NMDA (AMPA </a:t>
            </a:r>
            <a:r>
              <a:rPr b="0" lang="sr-RS" sz="1700" spc="-1" strike="noStrike">
                <a:solidFill>
                  <a:srgbClr val="000000"/>
                </a:solidFill>
                <a:latin typeface="Calibri"/>
                <a:ea typeface="Nirmala UI"/>
              </a:rPr>
              <a:t>и каинатни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Nirmala UI"/>
              </a:rPr>
              <a:t>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Calibri"/>
                <a:ea typeface="Nirmala UI"/>
              </a:rPr>
              <a:t>Позитивни модулатори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Nirmala UI"/>
              </a:rPr>
              <a:t>AMPA</a:t>
            </a:r>
            <a:r>
              <a:rPr b="0" lang="sr-RS" sz="1700" spc="-1" strike="noStrike">
                <a:solidFill>
                  <a:srgbClr val="000000"/>
                </a:solidFill>
                <a:latin typeface="Calibri"/>
                <a:ea typeface="Nirmala UI"/>
              </a:rPr>
              <a:t>: клотиазин, пирацетам ампалекс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Nirmala UI"/>
              </a:rPr>
              <a:t>Метаботроп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Calibri"/>
                <a:ea typeface="Nirmala UI"/>
              </a:rPr>
              <a:t>Везани за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Nirmala UI"/>
              </a:rPr>
              <a:t>G-</a:t>
            </a:r>
            <a:r>
              <a:rPr b="0" lang="sr-RS" sz="1700" spc="-1" strike="noStrike">
                <a:solidFill>
                  <a:srgbClr val="000000"/>
                </a:solidFill>
                <a:latin typeface="Calibri"/>
                <a:ea typeface="Nirmala UI"/>
              </a:rPr>
              <a:t>протеине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Nirmala UI"/>
              </a:rPr>
              <a:t> </a:t>
            </a:r>
            <a:r>
              <a:rPr b="0" lang="sr-RS" sz="1700" spc="-1" strike="noStrike">
                <a:solidFill>
                  <a:srgbClr val="000000"/>
                </a:solidFill>
                <a:latin typeface="Calibri"/>
                <a:ea typeface="Nirmala UI"/>
              </a:rPr>
              <a:t>(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Nirmala UI"/>
              </a:rPr>
              <a:t>mGulR</a:t>
            </a:r>
            <a:r>
              <a:rPr b="0" lang="sr-RS" sz="1700" spc="-1" strike="noStrike">
                <a:solidFill>
                  <a:srgbClr val="000000"/>
                </a:solidFill>
                <a:latin typeface="Calibri"/>
                <a:ea typeface="Nirmala UI"/>
              </a:rPr>
              <a:t>1-8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Calibri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Nirma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Nirmala UI"/>
              </a:rPr>
              <a:t>Аминокиселине као трансмитер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179280" y="126828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  <a:ea typeface="Nirmala UI"/>
              </a:rPr>
              <a:t>γ</a:t>
            </a:r>
            <a:r>
              <a:rPr b="0" lang="sr-RS" sz="2200" spc="-1" strike="noStrike">
                <a:solidFill>
                  <a:srgbClr val="000000"/>
                </a:solidFill>
                <a:latin typeface="Calibri"/>
                <a:ea typeface="Nirmala UI"/>
              </a:rPr>
              <a:t>-аминобутерна киселина- главни је инхибиторни неуротрансмитер у мозгу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Calibri"/>
                <a:ea typeface="Nirmala UI"/>
              </a:rPr>
              <a:t>Настаје декарбоксилацијом глутамата (глутамат-декарбоксилаза у присуству пиридоксал фосфата (Б6)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Nirmala UI"/>
              </a:rPr>
              <a:t>GABA</a:t>
            </a:r>
            <a:r>
              <a:rPr b="0" lang="sr-RS" sz="1700" spc="-1" strike="noStrike">
                <a:solidFill>
                  <a:srgbClr val="000000"/>
                </a:solidFill>
                <a:latin typeface="Calibri"/>
                <a:ea typeface="Nirmala UI"/>
              </a:rPr>
              <a:t> рецептори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Nirmala UI"/>
              </a:rPr>
              <a:t>GABA</a:t>
            </a:r>
            <a:r>
              <a:rPr b="0" lang="sr-RS" sz="1900" spc="-1" strike="noStrike">
                <a:solidFill>
                  <a:srgbClr val="000000"/>
                </a:solidFill>
                <a:latin typeface="Calibri"/>
                <a:ea typeface="Nirmala UI"/>
              </a:rPr>
              <a:t>а-) пентамери-лиганд зависни хлорни канал- постсинаптички,  екстрасинаптички, селективно пропустљиви за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Nirmala UI"/>
              </a:rPr>
              <a:t>CL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Calibri"/>
                <a:ea typeface="Nirmala UI"/>
              </a:rPr>
              <a:t>Агонисти: мусцимол, габоксадол, бензодиазепини (модулирано место-бензодизепински рецептор), барбитурати и  стероидни анестетици (</a:t>
            </a:r>
            <a:r>
              <a:rPr b="0" lang="sr-RS" sz="1700" spc="-1" strike="noStrike">
                <a:solidFill>
                  <a:srgbClr val="000000"/>
                </a:solidFill>
                <a:latin typeface="Calibri"/>
                <a:ea typeface="Calibri"/>
              </a:rPr>
              <a:t>„модулирано место‟</a:t>
            </a:r>
            <a:r>
              <a:rPr b="0" lang="sr-RS" sz="1700" spc="-1" strike="noStrike">
                <a:solidFill>
                  <a:srgbClr val="000000"/>
                </a:solidFill>
                <a:latin typeface="Calibri"/>
                <a:ea typeface="Nirmala UI"/>
              </a:rPr>
              <a:t>), алкохол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Calibri"/>
                <a:ea typeface="Nirmala UI"/>
              </a:rPr>
              <a:t>Антагонисти: Бикукулин; флумазенил ? (модулирано место-бензодизепински рецептор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Nirmala UI"/>
              </a:rPr>
              <a:t>GABAb</a:t>
            </a:r>
            <a:r>
              <a:rPr b="0" lang="sr-RS" sz="1900" spc="-1" strike="noStrike">
                <a:solidFill>
                  <a:srgbClr val="000000"/>
                </a:solidFill>
                <a:latin typeface="Calibri"/>
                <a:ea typeface="Nirmala UI"/>
              </a:rPr>
              <a:t>-   2 субјединице-рецептор везан за </a:t>
            </a:r>
            <a:r>
              <a:rPr b="0" lang="en-US" sz="1900" spc="-1" strike="noStrike">
                <a:solidFill>
                  <a:srgbClr val="000000"/>
                </a:solidFill>
                <a:latin typeface="Calibri"/>
                <a:ea typeface="Nirmala UI"/>
              </a:rPr>
              <a:t>G</a:t>
            </a:r>
            <a:r>
              <a:rPr b="0" lang="sr-RS" sz="1900" spc="-1" strike="noStrike">
                <a:solidFill>
                  <a:srgbClr val="000000"/>
                </a:solidFill>
                <a:latin typeface="Calibri"/>
                <a:ea typeface="Nirmala UI"/>
              </a:rPr>
              <a:t>-протеин пресинаптички и постсинаптички; њихова активација изазива инхибицију аденилат-циклазе, отварања калијумових канала и смањење пропустљивости за калцијум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700" spc="-1" strike="noStrike">
                <a:solidFill>
                  <a:srgbClr val="000000"/>
                </a:solidFill>
                <a:latin typeface="Calibri"/>
                <a:ea typeface="Nirmala UI"/>
              </a:rPr>
              <a:t>Агонисти: баклофен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Nirmala U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Nirmala UI"/>
              </a:rPr>
              <a:t>Аминокиселине као трансмитер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Nirmala UI"/>
              </a:rPr>
              <a:t>Глицин – важан у кичменој мождини и у можданом стаблу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Nirmala UI"/>
              </a:rPr>
              <a:t>Синтетише се у митохондријама пресинаптичких неурона из сери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Nirmala UI"/>
              </a:rPr>
              <a:t>GlyR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Nirmala UI"/>
              </a:rPr>
              <a:t>- јонотропни рецептор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Calibri"/>
                <a:ea typeface="Nirmala UI"/>
              </a:rPr>
              <a:t>Постсинаптички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Nirmala UI"/>
              </a:rPr>
              <a:t>Антагонисти: Стрихини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Nirmala UI"/>
              </a:rPr>
              <a:t>Тетанусни токсин делује селективно и спречава ослобађање глици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  <a:ea typeface="Nirmala U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Nirmala UI"/>
              </a:rPr>
              <a:t>Биогени амин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Nirmala UI"/>
              </a:rPr>
              <a:t>Катехоламини (допамин, норадреналин, адреналин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Nirmala UI"/>
              </a:rPr>
              <a:t>Серотон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Calibri"/>
                <a:ea typeface="Nirmala UI"/>
              </a:rPr>
              <a:t>Хистами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200" spc="-1" strike="noStrike">
                <a:solidFill>
                  <a:srgbClr val="000000"/>
                </a:solidFill>
                <a:latin typeface="Calibri"/>
                <a:ea typeface="Nirmala U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  <a:ea typeface="Nirmala UI"/>
              </a:rPr>
              <a:t>Допами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06280" y="1268280"/>
            <a:ext cx="86868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Nirmala UI"/>
              </a:rPr>
              <a:t>Укључен у више поремећаја мождане функције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Nirmala UI"/>
              </a:rPr>
              <a:t>Паркинсонова болест, Шизофренија, поремећаји пажње, различити облици зависности, и неки ендокринолошки поремећај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Nirmala UI"/>
              </a:rPr>
              <a:t>Синтетише се из тирозина  под дејством тирозин хидроксилазе--&gt; дихидроксифенилаланин (DOPA)                               допамин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  <a:ea typeface="Nirmala U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Nirmala UI"/>
              </a:rPr>
              <a:t>Након оствареног дејста разграђују га МАО(Б) и катехол-О-метилтрансфераз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" name="Straight Arrow Connector 4"/>
          <p:cNvCxnSpPr/>
          <p:nvPr/>
        </p:nvCxnSpPr>
        <p:spPr>
          <a:xfrm>
            <a:off x="4427280" y="2997000"/>
            <a:ext cx="13690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0" name="TextBox 5"/>
          <p:cNvSpPr/>
          <p:nvPr/>
        </p:nvSpPr>
        <p:spPr>
          <a:xfrm>
            <a:off x="4284720" y="278136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Nirmala UI"/>
              </a:rPr>
              <a:t>DOPA декарбоксилаз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Straight Arrow Connector 7"/>
          <p:cNvCxnSpPr/>
          <p:nvPr/>
        </p:nvCxnSpPr>
        <p:spPr>
          <a:xfrm>
            <a:off x="4427280" y="3644640"/>
            <a:ext cx="1080" cy="36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2" name="TextBox 8"/>
          <p:cNvSpPr/>
          <p:nvPr/>
        </p:nvSpPr>
        <p:spPr>
          <a:xfrm>
            <a:off x="1332000" y="4005360"/>
            <a:ext cx="60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Дихидроксифенилсирћетна киселина и хомованилна кис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9"/>
          <p:cNvSpPr/>
          <p:nvPr/>
        </p:nvSpPr>
        <p:spPr>
          <a:xfrm>
            <a:off x="5435640" y="220500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антидепреси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Straight Arrow Connector 11"/>
          <p:cNvCxnSpPr/>
          <p:nvPr/>
        </p:nvCxnSpPr>
        <p:spPr>
          <a:xfrm>
            <a:off x="5579640" y="2276640"/>
            <a:ext cx="1080" cy="289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5" name="TextBox 12"/>
          <p:cNvSpPr/>
          <p:nvPr/>
        </p:nvSpPr>
        <p:spPr>
          <a:xfrm>
            <a:off x="3327840" y="2266920"/>
            <a:ext cx="2172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Кофеин, никотин, морфи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Straight Arrow Connector 14"/>
          <p:cNvCxnSpPr/>
          <p:nvPr/>
        </p:nvCxnSpPr>
        <p:spPr>
          <a:xfrm flipV="1">
            <a:off x="3319200" y="2182320"/>
            <a:ext cx="1080" cy="370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TextBox 16"/>
          <p:cNvSpPr/>
          <p:nvPr/>
        </p:nvSpPr>
        <p:spPr>
          <a:xfrm>
            <a:off x="5076720" y="306864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антидепреси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Straight Arrow Connector 18"/>
          <p:cNvCxnSpPr/>
          <p:nvPr/>
        </p:nvCxnSpPr>
        <p:spPr>
          <a:xfrm flipH="1">
            <a:off x="4787640" y="3186000"/>
            <a:ext cx="505440" cy="145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1-27T11:55:13Z</dcterms:created>
  <dc:creator>User13</dc:creator>
  <dc:description/>
  <dc:language>en-US</dc:language>
  <cp:lastModifiedBy>Marko</cp:lastModifiedBy>
  <dcterms:modified xsi:type="dcterms:W3CDTF">2020-02-10T08:14:10Z</dcterms:modified>
  <cp:revision>21</cp:revision>
  <dc:subject/>
  <dc:title>Основи аспекти психофармакологије и неурофармакологије  Фармакологија антипсихотика </dc:title>
</cp:coreProperties>
</file>